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AD85-6D16-44A8-8967-FA026E30D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just a beginning 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Adult Novel Example was created using Word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blog lists ideas on how to use blogging in the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AA42-B9C8-4267-8CD5-425ADD371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Wikispaces pages can be set to private so the content cannot be ed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412C-1B81-4D4F-9107-89F5270DE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eachers the Wiki Walk-Through but do not spend a great deal of time on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1E9D-1B02-4C46-A643-93E43B1E4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B068-3327-4392-9317-1E11DF1C1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examples of wik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8594-7992-4717-9A83-1A401E918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articipants how many have created a blog or have used a blog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604E-47C4-4759-BC99-8B17772B9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70CD-A55E-45A6-BA24-5B848DAA1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DD73-EED6-47B4-872A-26160C2FA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wikipedia definition and discuss how it relates / varies from what the participates view as a b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0A49-848B-4C80-8DC4-2C10250BD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um is similar to an electronic bulleti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41BF-8F49-4805-9820-C6290DA7D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s are in order from most rec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5CD4-7F5A-4CA5-9602-A023A78EF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different examples of b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Adult Novels Blog is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18EB-420F-4BD5-AD12-E1F630705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A961-17CF-4E33-A927-AD14D4F0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11BB-1E9D-485C-819C-8E85C100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350-E45F-4C6E-BB59-431FDECE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FE8A-F1E4-4578-A05B-8F4055BB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0D92-EC97-4205-A0C3-92C0648B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A522-6A05-4128-9192-92C4EF41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466A-DBDE-4B07-AB99-0497DA3E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3B1E-7EFB-42FD-AF8F-D07CB7F9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7581-B1BD-4C88-BDCD-809CF7C1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3D48-9423-475F-8CE8-E6A332C9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C618-A06B-4F57-AA13-62197D4A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45C-985B-4BD0-BBF9-D90FBA68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961B-F43D-4C93-9EA9-46819AF8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521A-A165-4FB6-8533-FF6E8378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5EBB-212D-4B45-91D8-792AF7D0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BB1E-3E17-4910-B5F2-50ECD70A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E245-457B-4B5C-A648-B889D66E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3DD-2C03-47CD-ACEF-403F1F07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22A-0D1E-43F1-A3B2-D40917EA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3AEE-E835-42C9-BFF1-FA20BC65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E02B-331D-4AC5-A85D-341FD0D4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7EB4-8DF0-484F-B3E6-7E902F1A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D5E-8CFB-4EC2-AB13-91522023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91C-9601-43C3-8A9E-71DB5F1E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a70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17e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67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CB8D-12B9-486F-87A7-8EC85710ADB5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99" name="Group 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100" name="Group 4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101" name="Line 5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6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7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8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Line 9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Line 10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11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12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13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10" name="Group 14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11" name="Line 15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16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Line 17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Line 18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Line 19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Line 20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Line 21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2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Group 23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120" name="Line 24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Line 25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Line 26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27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Line 28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Line 29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Line 30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Line 31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Group 32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129" name="Line 33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34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Line 35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36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37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38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Line 39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Line 40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Group 41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138" name="Line 42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43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Line 44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45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46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Line 47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48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Line 49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Group 5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147" name="Group 51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148" name="Line 52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53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54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Line 55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56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57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58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59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60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157" name="Line 61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62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63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64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65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Line 66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Line 67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68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Group 69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166" name="Line 70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71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Line 72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73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74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Line 75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Line 76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Line 77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Group 78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175" name="Line 79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Line 80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Line 81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Line 82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83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84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Line 85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Line 86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Group 87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184" name="Group 88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185" name="Line 89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Line 90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Line 91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Line 92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Line 93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Line 94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Line 95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Line 96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Group 97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194" name="Line 98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Line 99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100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101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102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103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Line 104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Line 105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Group 106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203" name="Line 107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108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109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Line 110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111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112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113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114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Group 115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212" name="Line 116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Line 117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Line 118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Line 119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Line 120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Line 121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Line 122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Line 123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Group 124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221" name="Group 125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222" name="Line 126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Line 127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Line 128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Line 129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Line 130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Line 131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Line 132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Line 133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34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231" name="Line 135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Line 136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Line 137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Line 138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Line 139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Line 140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Line 141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Line 142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143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240" name="Line 144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Line 145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Line 146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Line 147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Line 148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149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150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151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152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249" name="Line 153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154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55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56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7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58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Line 159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60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Group 161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258" name="Group 162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259" name="Line 163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64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165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66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67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168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169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170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171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268" name="Line 172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173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174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175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176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177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178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179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Group 180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277" name="Line 181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182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183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184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185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Line 186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Line 187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188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Group 189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286" name="Line 190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191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192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Line 193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Line 194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Line 195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Line 196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197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198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295" name="Line 199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Line 200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Line 201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202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203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204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205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206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207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208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209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210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307" name="Rectangle 211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717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212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a70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213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826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214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4c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15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216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313" name="Group 217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314" name="Rectangle 218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Rectangle 219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220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317" name="Rectangle 221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Rectangle 222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223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320" name="Rectangle 224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Rectangle 225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226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323" name="Rectangle 227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228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Group 229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326" name="Rectangle 230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231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Group 232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329" name="Rectangle 233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Rectangle 234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235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332" name="Rectangle 236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Rectangle 237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238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335" name="Rectangle 239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Rectangle 240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37" name="Picture 241" descr="Posbul1a"/>
            <p:cNvPicPr/>
            <p:nvPr/>
          </p:nvPicPr>
          <p:blipFill>
            <a:blip r:embed="rId2"/>
            <a:stretch/>
          </p:blipFill>
          <p:spPr>
            <a:xfrm>
              <a:off x="3864600" y="3352680"/>
              <a:ext cx="274680" cy="31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a70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17e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67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F2B9-8EA7-4319-A2B5-6FC3F9E0C46C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.xml"/><Relationship Id="rId3" Type="http://schemas.openxmlformats.org/officeDocument/2006/relationships/hyperlink" Target="mailto:atamarazio@e1b.org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ordpress.com/" TargetMode="External"/><Relationship Id="rId2" Type="http://schemas.openxmlformats.org/officeDocument/2006/relationships/hyperlink" Target="http://edublogs.org/" TargetMode="External"/><Relationship Id="rId3" Type="http://schemas.openxmlformats.org/officeDocument/2006/relationships/hyperlink" Target="http://kidblog.org/home.php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nyric.org/1055621228152714/lib/1055621228152714/Wikis_in_Education.ppt" TargetMode="External"/><Relationship Id="rId2" Type="http://schemas.openxmlformats.org/officeDocument/2006/relationships/hyperlink" Target="mailto:atamarazio@e1b.org" TargetMode="External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1online.wnyric.org/wiki/index.php/Main_Page" TargetMode="External"/><Relationship Id="rId2" Type="http://schemas.openxmlformats.org/officeDocument/2006/relationships/hyperlink" Target="http://e1online.wnyric.org/wiki/index.php/CSLO/Model_Schools" TargetMode="External"/><Relationship Id="rId3" Type="http://schemas.openxmlformats.org/officeDocument/2006/relationships/hyperlink" Target="http://e1online.wnyric.org/wiki/index.php/Wikis_in_Education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ard_Cunningham" TargetMode="External"/><Relationship Id="rId2" Type="http://schemas.openxmlformats.org/officeDocument/2006/relationships/hyperlink" Target="http://en.wikipedia.org/wiki/Portland_Pattern_Repository" TargetMode="External"/><Relationship Id="rId3" Type="http://schemas.openxmlformats.org/officeDocument/2006/relationships/hyperlink" Target="http://www.mediawiki.org/wiki/MediaWiki" TargetMode="External"/><Relationship Id="rId4" Type="http://schemas.openxmlformats.org/officeDocument/2006/relationships/hyperlink" Target="http://www.commoncraft.com/video-wikis-plain-english" TargetMode="External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achersfirst.com/content/wiki/" TargetMode="External"/><Relationship Id="rId2" Type="http://schemas.openxmlformats.org/officeDocument/2006/relationships/hyperlink" Target="http://educationalwikis.wikispace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1online.wnyric.org/wiki/index.php/Wikis_in_Education#Free_Wiki_Hosting" TargetMode="External"/><Relationship Id="rId2" Type="http://schemas.openxmlformats.org/officeDocument/2006/relationships/hyperlink" Target="http://www.wikispaces.com/" TargetMode="External"/><Relationship Id="rId3" Type="http://schemas.openxmlformats.org/officeDocument/2006/relationships/hyperlink" Target="http://www.wikispaces.com/site/for/teachers100K" TargetMode="External"/><Relationship Id="rId4" Type="http://schemas.openxmlformats.org/officeDocument/2006/relationships/hyperlink" Target="http://pbworks.com/" TargetMode="External"/><Relationship Id="rId5" Type="http://schemas.openxmlformats.org/officeDocument/2006/relationships/hyperlink" Target="http://mrlindsay.pbwiki.com/" TargetMode="External"/><Relationship Id="rId6" Type="http://schemas.openxmlformats.org/officeDocument/2006/relationships/hyperlink" Target="http://wiki.zoho.com/" TargetMode="External"/><Relationship Id="rId7" Type="http://schemas.openxmlformats.org/officeDocument/2006/relationships/hyperlink" Target="http://www.wetpaint.com/" TargetMode="External"/><Relationship Id="rId8" Type="http://schemas.openxmlformats.org/officeDocument/2006/relationships/hyperlink" Target="http://www.bluwiki.org/go/Main_Page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1online.wnyric.org/wiki/index.php/Wikis_in_Education#Types_of_Wikis" TargetMode="Externa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20.xml"/><Relationship Id="rId10" Type="http://schemas.openxmlformats.org/officeDocument/2006/relationships/slide" Target="slide21.xml"/><Relationship Id="rId11" Type="http://schemas.openxmlformats.org/officeDocument/2006/relationships/image" Target="../media/image9.png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" TargetMode="External"/><Relationship Id="rId2" Type="http://schemas.openxmlformats.org/officeDocument/2006/relationships/hyperlink" Target="http://www.citizendium.org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books.org/wiki/Main_Page" TargetMode="External"/><Relationship Id="rId2" Type="http://schemas.openxmlformats.org/officeDocument/2006/relationships/hyperlink" Target="http://en.wikibooks.org/wiki/Wikiversity" TargetMode="External"/><Relationship Id="rId3" Type="http://schemas.openxmlformats.org/officeDocument/2006/relationships/hyperlink" Target="http://en.wikibooks.org/wiki/Wikijunior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wiktionary.org/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iki.ehow.com/Main-Page" TargetMode="External"/><Relationship Id="rId2" Type="http://schemas.openxmlformats.org/officeDocument/2006/relationships/hyperlink" Target="http://en.wikibooks.org/wiki/Garageband_Quick_Tutorial" TargetMode="External"/><Relationship Id="rId3" Type="http://schemas.openxmlformats.org/officeDocument/2006/relationships/hyperlink" Target="http://wiki.ucalgary.ca/page/Podcasting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urriki.org/" TargetMode="External"/><Relationship Id="rId2" Type="http://schemas.openxmlformats.org/officeDocument/2006/relationships/hyperlink" Target="http://www.libsuccess.org/index.php?title=Main_Page" TargetMode="External"/><Relationship Id="rId3" Type="http://schemas.openxmlformats.org/officeDocument/2006/relationships/hyperlink" Target="http://en.wikibooks.org/wiki/Blended_Learning_in_K-12/Introduction" TargetMode="External"/><Relationship Id="rId4" Type="http://schemas.openxmlformats.org/officeDocument/2006/relationships/hyperlink" Target="http://wiki.monroe.edu/" TargetMode="External"/><Relationship Id="rId5" Type="http://schemas.openxmlformats.org/officeDocument/2006/relationships/hyperlink" Target="http://sweethomeadminwiki.pbwiki.com/FrontPage" TargetMode="Externa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wikisource.org/wiki/Main_Page:English" TargetMode="External"/><Relationship Id="rId2" Type="http://schemas.openxmlformats.org/officeDocument/2006/relationships/hyperlink" Target="http://www.vidipedia.org/Main_Page" TargetMode="External"/><Relationship Id="rId3" Type="http://schemas.openxmlformats.org/officeDocument/2006/relationships/hyperlink" Target="http://cpdl.org/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news.org/wiki/Main_Page" TargetMode="Externa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qwika.com/" TargetMode="External"/><Relationship Id="rId2" Type="http://schemas.openxmlformats.org/officeDocument/2006/relationships/hyperlink" Target="http://en.wikiquote.org/wiki/Main_Page" TargetMode="External"/><Relationship Id="rId3" Type="http://schemas.openxmlformats.org/officeDocument/2006/relationships/hyperlink" Target="http://arborheights.wikispaces.com/" TargetMode="External"/><Relationship Id="rId4" Type="http://schemas.openxmlformats.org/officeDocument/2006/relationships/hyperlink" Target="http://www.ipl.org/div/teenpoet/" TargetMode="External"/><Relationship Id="rId5" Type="http://schemas.openxmlformats.org/officeDocument/2006/relationships/hyperlink" Target="http://monicabd.wikispaces.com/" TargetMode="External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1online.wnyric.org/wiki/index.php/Wikis_in_Education#Wiki_Lesson_Ideas" TargetMode="External"/><Relationship Id="rId2" Type="http://schemas.openxmlformats.org/officeDocument/2006/relationships/hyperlink" Target="http://schools.wikia.com/wiki/Main_Page" TargetMode="External"/><Relationship Id="rId3" Type="http://schemas.openxmlformats.org/officeDocument/2006/relationships/hyperlink" Target="http://www.ipl.org/div/teenpoet/" TargetMode="Externa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studyingsocietiesatjhk.pbwiki.com/" TargetMode="External"/><Relationship Id="rId2" Type="http://schemas.openxmlformats.org/officeDocument/2006/relationships/hyperlink" Target="http://en.wikibooks.org/wiki/Wikijunior" TargetMode="External"/><Relationship Id="rId3" Type="http://schemas.openxmlformats.org/officeDocument/2006/relationships/hyperlink" Target="http://www.wikispaces.com/site/for/teachers100K" TargetMode="Externa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wikimatrix.org/index.php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seedwiki.com/wiki/wikis_in_education/wiki_information.htm" TargetMode="External"/><Relationship Id="rId2" Type="http://schemas.openxmlformats.org/officeDocument/2006/relationships/hyperlink" Target="http://wik.ed.uiuc.edu/index.php/Wikis_in_Online_Education" TargetMode="External"/><Relationship Id="rId3" Type="http://schemas.openxmlformats.org/officeDocument/2006/relationships/hyperlink" Target="http://www.wired.com/wired/archive/13.03/wiki.html" TargetMode="External"/><Relationship Id="rId4" Type="http://schemas.openxmlformats.org/officeDocument/2006/relationships/hyperlink" Target="http://www.marcbilodeau.com/research/it/wiki.pdf" TargetMode="External"/><Relationship Id="rId5" Type="http://schemas.openxmlformats.org/officeDocument/2006/relationships/hyperlink" Target="http://writingwiki.org/default.aspx/WritingWiki/For%20Teachers%20New%20to%20Wikis.html" TargetMode="External"/><Relationship Id="rId6" Type="http://schemas.openxmlformats.org/officeDocument/2006/relationships/hyperlink" Target="http://www.eschoolnews.com/news/showStory.cfm?ArticleID=6069" TargetMode="External"/><Relationship Id="rId7" Type="http://schemas.openxmlformats.org/officeDocument/2006/relationships/hyperlink" Target="http://webloggedlinks.pbwiki.com/Wikis" TargetMode="External"/><Relationship Id="rId8" Type="http://schemas.openxmlformats.org/officeDocument/2006/relationships/slide" Target="slide10.xml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thinkbright.org/documents/1620_7985_buffalo.ppt#22. The Wiki Revolution" TargetMode="External"/><Relationship Id="rId2" Type="http://schemas.openxmlformats.org/officeDocument/2006/relationships/hyperlink" Target="http://www.nature.com/nature/journal/v438/n7070/full/438900a.html" TargetMode="External"/><Relationship Id="rId3" Type="http://schemas.openxmlformats.org/officeDocument/2006/relationships/hyperlink" Target="http://en.wikipedia.org/wiki/Wikipedia:External_peer_review#Findings_5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log" TargetMode="External"/><Relationship Id="rId2" Type="http://schemas.openxmlformats.org/officeDocument/2006/relationships/hyperlink" Target="http://www.commoncraft.com/blog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estudios.com/articles/article23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hyperlink" Target="http://forums.atozteacherstuff.com/forumdisplay.php?f=8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hyperlink" Target="http://mrsd.tblog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rsd.tblog.com/" TargetMode="External"/><Relationship Id="rId2" Type="http://schemas.openxmlformats.org/officeDocument/2006/relationships/hyperlink" Target="http://mrsd.tblog.com/" TargetMode="External"/><Relationship Id="rId3" Type="http://schemas.openxmlformats.org/officeDocument/2006/relationships/hyperlink" Target="http://mrsd.tblog.com/" TargetMode="External"/><Relationship Id="rId4" Type="http://schemas.openxmlformats.org/officeDocument/2006/relationships/hyperlink" Target="http://jhh.blogs.com/rikard/" TargetMode="External"/><Relationship Id="rId5" Type="http://schemas.openxmlformats.org/officeDocument/2006/relationships/hyperlink" Target="http://jhh.blogs.com/rikard/" TargetMode="External"/><Relationship Id="rId6" Type="http://schemas.openxmlformats.org/officeDocument/2006/relationships/hyperlink" Target="http://jhh.blogs.com/rikard/" TargetMode="External"/><Relationship Id="rId7" Type="http://schemas.openxmlformats.org/officeDocument/2006/relationships/hyperlink" Target="http://nwenglish9.wordpress.com/" TargetMode="External"/><Relationship Id="rId8" Type="http://schemas.openxmlformats.org/officeDocument/2006/relationships/hyperlink" Target="http://teachinghistorymatters.wordpress.com/" TargetMode="External"/><Relationship Id="rId9" Type="http://schemas.openxmlformats.org/officeDocument/2006/relationships/hyperlink" Target="http://misterteacher.blogspot.com/" TargetMode="External"/><Relationship Id="rId10" Type="http://schemas.openxmlformats.org/officeDocument/2006/relationships/hyperlink" Target="http://misterteacher.blogspot.com/" TargetMode="External"/><Relationship Id="rId11" Type="http://schemas.openxmlformats.org/officeDocument/2006/relationships/hyperlink" Target="http://misterteacher.blogspot.com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assblogmeister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a70ae"/>
                </a:solidFill>
                <a:uFillTx/>
                <a:latin typeface="Arial"/>
                <a:hlinkClick r:id="rId1" action="ppaction://hlinksldjump"/>
              </a:rPr>
              <a:t>Wikis</a:t>
            </a: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, and </a:t>
            </a:r>
            <a:r>
              <a:rPr b="0" lang="en-US" sz="4400" spc="-1" strike="noStrike" u="sng">
                <a:solidFill>
                  <a:srgbClr val="ca70ae"/>
                </a:solidFill>
                <a:uFillTx/>
                <a:latin typeface="Arial"/>
                <a:hlinkClick r:id="rId2" action="ppaction://hlinksldjump"/>
              </a:rPr>
              <a:t>Blog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a Tamaraz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e 1 B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atamarazio@e1b.o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ings to Think Abou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personal information will you put up about each stu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you assess your student’s blogs? Will you assess their Blo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Blog be done; at home, school, or bo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e ability to post a comment do for a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6196" y="7493"/>
                </a:moveTo>
                <a:lnTo>
                  <a:pt x="9704" y="7493"/>
                </a:lnTo>
                <a:lnTo>
                  <a:pt x="9704" y="12828"/>
                </a:lnTo>
                <a:cubicBezTo>
                  <a:pt x="9704" y="13751"/>
                  <a:pt x="10504" y="14482"/>
                  <a:pt x="11540" y="14482"/>
                </a:cubicBezTo>
                <a:lnTo>
                  <a:pt x="13203" y="14482"/>
                </a:lnTo>
                <a:cubicBezTo>
                  <a:pt x="14238" y="14482"/>
                  <a:pt x="15039" y="13751"/>
                  <a:pt x="15039" y="12828"/>
                </a:cubicBezTo>
                <a:lnTo>
                  <a:pt x="15039" y="7493"/>
                </a:lnTo>
                <a:lnTo>
                  <a:pt x="13203" y="7493"/>
                </a:lnTo>
                <a:lnTo>
                  <a:pt x="16710" y="3985"/>
                </a:lnTo>
                <a:lnTo>
                  <a:pt x="20383" y="7493"/>
                </a:lnTo>
                <a:lnTo>
                  <a:pt x="18547" y="7493"/>
                </a:lnTo>
                <a:lnTo>
                  <a:pt x="18547" y="12828"/>
                </a:lnTo>
                <a:cubicBezTo>
                  <a:pt x="18547" y="15596"/>
                  <a:pt x="15970" y="18155"/>
                  <a:pt x="13203" y="18155"/>
                </a:cubicBezTo>
                <a:lnTo>
                  <a:pt x="11540" y="18155"/>
                </a:lnTo>
                <a:cubicBezTo>
                  <a:pt x="8772" y="18155"/>
                  <a:pt x="6196" y="15596"/>
                  <a:pt x="6196" y="12828"/>
                </a:cubicBez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Blogging Websi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Wordpr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get a free blo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EduBlo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educational blogging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KidB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afe and Simple blogs for you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Wikis vs. Blog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wiki </a:t>
            </a: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e a blo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log </a:t>
            </a: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an’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e a wik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6" descr="MCj03043110000[1]"/>
          <p:cNvPicPr/>
          <p:nvPr/>
        </p:nvPicPr>
        <p:blipFill>
          <a:blip r:embed="rId1"/>
          <a:stretch/>
        </p:blipFill>
        <p:spPr>
          <a:xfrm>
            <a:off x="7086600" y="2286000"/>
            <a:ext cx="10699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Wikis in Edu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a Tamaraz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e 1 B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atamarazio@e1b.o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6196" y="7493"/>
                </a:moveTo>
                <a:lnTo>
                  <a:pt x="9704" y="7493"/>
                </a:lnTo>
                <a:lnTo>
                  <a:pt x="9704" y="12828"/>
                </a:lnTo>
                <a:cubicBezTo>
                  <a:pt x="9704" y="13751"/>
                  <a:pt x="10504" y="14482"/>
                  <a:pt x="11540" y="14482"/>
                </a:cubicBezTo>
                <a:lnTo>
                  <a:pt x="13203" y="14482"/>
                </a:lnTo>
                <a:cubicBezTo>
                  <a:pt x="14238" y="14482"/>
                  <a:pt x="15039" y="13751"/>
                  <a:pt x="15039" y="12828"/>
                </a:cubicBezTo>
                <a:lnTo>
                  <a:pt x="15039" y="7493"/>
                </a:lnTo>
                <a:lnTo>
                  <a:pt x="13203" y="7493"/>
                </a:lnTo>
                <a:lnTo>
                  <a:pt x="16710" y="3985"/>
                </a:lnTo>
                <a:lnTo>
                  <a:pt x="20383" y="7493"/>
                </a:lnTo>
                <a:lnTo>
                  <a:pt x="18547" y="7493"/>
                </a:lnTo>
                <a:lnTo>
                  <a:pt x="18547" y="12828"/>
                </a:lnTo>
                <a:cubicBezTo>
                  <a:pt x="18547" y="15596"/>
                  <a:pt x="15970" y="18155"/>
                  <a:pt x="13203" y="18155"/>
                </a:cubicBezTo>
                <a:lnTo>
                  <a:pt x="11540" y="18155"/>
                </a:lnTo>
                <a:cubicBezTo>
                  <a:pt x="8772" y="18155"/>
                  <a:pt x="6196" y="15596"/>
                  <a:pt x="6196" y="12828"/>
                </a:cubicBez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Wikis created for WNYRIC CSLO/Model Schools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Erie 1 Onlin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a70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can add/edit pages for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CSLO/Model Scho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cluding instructional resources, technology tool help, and lesson ideas –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Wikis in Education Arti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4">
            <a:hlinkClick r:id="" action="ppaction://hlinkshowjump?jump=firstslide"/>
          </p:cNvPr>
          <p:cNvSpPr/>
          <p:nvPr/>
        </p:nvSpPr>
        <p:spPr>
          <a:xfrm>
            <a:off x="830592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What is a wiki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 "wiki" comes from a Hawaiian word meaning "quick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ki is an online resource that is easily editable by any user from any Internet brows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s allow for cross-referencing outside links or other pages in the same wik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can edit anyone else's work in a wik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s can be reverted back to previous edi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s were created by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Ward Cunningh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for the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Portland Pattern 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n 199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wikis can be created with free server-based software such as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MediaWi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a70ae"/>
                </a:solidFill>
                <a:uFillTx/>
                <a:latin typeface="Arial"/>
                <a:hlinkClick r:id="rId4"/>
              </a:rPr>
              <a:t>Wikis in Plain Engli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6" descr="C:\Documents and Settings\ATamarazio\Local Settings\Temporary Internet Files\Content.IE5\K0PXQ83L\MCTR00221_0000[1].wmf"/>
          <p:cNvPicPr/>
          <p:nvPr/>
        </p:nvPicPr>
        <p:blipFill>
          <a:blip r:embed="rId5"/>
          <a:stretch/>
        </p:blipFill>
        <p:spPr>
          <a:xfrm>
            <a:off x="7748640" y="228600"/>
            <a:ext cx="13953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alk Through Wikis – Step by Step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First: Wiki Walk-Through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http://www.teachersfirst.com/content/wiki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a70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source includes basic information about wikis, as well as curriculum integration ideas. Implementation issues are also addr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spaces - Educational Wikis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http://educationalwikis.wikispaces.com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Free Wiki Hosting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spaces (recommended)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http://www.wikispaces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a70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Free Wikis for Teachers and School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ull privileges (premium - no advertisements, sec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bwiki (recommended)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4"/>
              </a:rPr>
              <a:t>http://pbworks.com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a70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5"/>
              </a:rPr>
              <a:t>http://mrlindsay.pbwiki.com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ho Wiki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6"/>
              </a:rPr>
              <a:t>http://wiki.zoh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tpaint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7"/>
              </a:rPr>
              <a:t>http://www.wetpaint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Wiki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8"/>
              </a:rPr>
              <a:t>http://www.bluwiki.org/go/Main_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7" descr="MCj04104770000[1]"/>
          <p:cNvPicPr/>
          <p:nvPr/>
        </p:nvPicPr>
        <p:blipFill>
          <a:blip r:embed="rId9"/>
          <a:stretch/>
        </p:blipFill>
        <p:spPr>
          <a:xfrm>
            <a:off x="6945480" y="3581280"/>
            <a:ext cx="16621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Types of Wikis</a:t>
            </a: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 – Examples of Eac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2" action="ppaction://hlinksldjump"/>
              </a:rPr>
              <a:t>Encycloped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3" action="ppaction://hlinksldjump"/>
              </a:rPr>
              <a:t>Online Text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4" action="ppaction://hlinksldjump"/>
              </a:rPr>
              <a:t>Online Diction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5" action="ppaction://hlinksldjump"/>
              </a:rPr>
              <a:t>How-To Gu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6" action="ppaction://hlinksldjump"/>
              </a:rPr>
              <a:t>Best Practic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7" action="ppaction://hlinksldjump"/>
              </a:rPr>
              <a:t>Online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8" action="ppaction://hlinksldjump"/>
              </a:rPr>
              <a:t>News Wik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9" action="ppaction://hlinksldjump"/>
              </a:rPr>
              <a:t>Fan Wik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10" action="ppaction://hlinksldjump"/>
              </a:rPr>
              <a:t>Other Wik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6" descr="MCj02500770000[1]"/>
          <p:cNvPicPr/>
          <p:nvPr/>
        </p:nvPicPr>
        <p:blipFill>
          <a:blip r:embed="rId11"/>
          <a:stretch/>
        </p:blipFill>
        <p:spPr>
          <a:xfrm>
            <a:off x="6324480" y="1905120"/>
            <a:ext cx="2127240" cy="213336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4">
            <a:hlinkClick r:id="rId12" action="ppaction://hlinksldjump"/>
          </p:cNvPr>
          <p:cNvSpPr/>
          <p:nvPr/>
        </p:nvSpPr>
        <p:spPr>
          <a:xfrm>
            <a:off x="7620120" y="533412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11572" y="3837"/>
                </a:moveTo>
                <a:lnTo>
                  <a:pt x="14149" y="6448"/>
                </a:ln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lnTo>
                  <a:pt x="18535" y="10800"/>
                </a:lnTo>
                <a:lnTo>
                  <a:pt x="16882" y="10800"/>
                </a:lnTo>
                <a:lnTo>
                  <a:pt x="16882" y="17989"/>
                </a:lnTo>
                <a:lnTo>
                  <a:pt x="6263" y="17989"/>
                </a:lnTo>
                <a:lnTo>
                  <a:pt x="6263" y="10800"/>
                </a:lnTo>
                <a:lnTo>
                  <a:pt x="4610" y="10800"/>
                </a:lnTo>
                <a:close/>
              </a:path>
              <a:path fill="darkenLess" w="23145" h="21600">
                <a:moveTo>
                  <a:pt x="14149" y="6448"/>
                </a:move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close/>
              </a:path>
              <a:path fill="darkenLess" w="23145" h="21600">
                <a:moveTo>
                  <a:pt x="10650" y="14299"/>
                </a:moveTo>
                <a:lnTo>
                  <a:pt x="12495" y="14299"/>
                </a:lnTo>
                <a:lnTo>
                  <a:pt x="12495" y="17989"/>
                </a:lnTo>
                <a:lnTo>
                  <a:pt x="16882" y="17989"/>
                </a:lnTo>
                <a:lnTo>
                  <a:pt x="16882" y="10800"/>
                </a:lnTo>
                <a:lnTo>
                  <a:pt x="6263" y="10800"/>
                </a:lnTo>
                <a:lnTo>
                  <a:pt x="6263" y="17989"/>
                </a:lnTo>
                <a:lnTo>
                  <a:pt x="10650" y="17989"/>
                </a:ln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cyclopedia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Wikipedia – </a:t>
            </a:r>
            <a:r>
              <a:rPr b="0" lang="en-US" sz="24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http://en.wikipedi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: Citizendium - </a:t>
            </a:r>
            <a:r>
              <a:rPr b="0" lang="en-US" sz="24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http://www.citizendium.org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10" descr="MCED00271_0000[1]"/>
          <p:cNvPicPr/>
          <p:nvPr/>
        </p:nvPicPr>
        <p:blipFill>
          <a:blip r:embed="rId3"/>
          <a:stretch/>
        </p:blipFill>
        <p:spPr>
          <a:xfrm>
            <a:off x="5835600" y="4489560"/>
            <a:ext cx="20131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youblog"/>
          <p:cNvPicPr/>
          <p:nvPr/>
        </p:nvPicPr>
        <p:blipFill>
          <a:blip r:embed="rId1"/>
          <a:stretch/>
        </p:blipFill>
        <p:spPr>
          <a:xfrm>
            <a:off x="1295280" y="838080"/>
            <a:ext cx="6477120" cy="5054760"/>
          </a:xfrm>
          <a:prstGeom prst="rect">
            <a:avLst/>
          </a:prstGeom>
          <a:ln w="0">
            <a:noFill/>
          </a:ln>
        </p:spPr>
      </p:pic>
      <p:sp>
        <p:nvSpPr>
          <p:cNvPr id="389" name="AutoShape 3">
            <a:hlinkClick r:id="" action="ppaction://hlinkshowjump?jump=firstslide"/>
          </p:cNvPr>
          <p:cNvSpPr/>
          <p:nvPr/>
        </p:nvSpPr>
        <p:spPr>
          <a:xfrm>
            <a:off x="7924680" y="57913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6196" y="7493"/>
                </a:moveTo>
                <a:lnTo>
                  <a:pt x="9704" y="7493"/>
                </a:lnTo>
                <a:lnTo>
                  <a:pt x="9704" y="12828"/>
                </a:lnTo>
                <a:cubicBezTo>
                  <a:pt x="9704" y="13751"/>
                  <a:pt x="10504" y="14482"/>
                  <a:pt x="11540" y="14482"/>
                </a:cubicBezTo>
                <a:lnTo>
                  <a:pt x="13203" y="14482"/>
                </a:lnTo>
                <a:cubicBezTo>
                  <a:pt x="14238" y="14482"/>
                  <a:pt x="15039" y="13751"/>
                  <a:pt x="15039" y="12828"/>
                </a:cubicBezTo>
                <a:lnTo>
                  <a:pt x="15039" y="7493"/>
                </a:lnTo>
                <a:lnTo>
                  <a:pt x="13203" y="7493"/>
                </a:lnTo>
                <a:lnTo>
                  <a:pt x="16710" y="3985"/>
                </a:lnTo>
                <a:lnTo>
                  <a:pt x="20383" y="7493"/>
                </a:lnTo>
                <a:lnTo>
                  <a:pt x="18547" y="7493"/>
                </a:lnTo>
                <a:lnTo>
                  <a:pt x="18547" y="12828"/>
                </a:lnTo>
                <a:cubicBezTo>
                  <a:pt x="18547" y="15596"/>
                  <a:pt x="15970" y="18155"/>
                  <a:pt x="13203" y="18155"/>
                </a:cubicBezTo>
                <a:lnTo>
                  <a:pt x="11540" y="18155"/>
                </a:lnTo>
                <a:cubicBezTo>
                  <a:pt x="8772" y="18155"/>
                  <a:pt x="6196" y="15596"/>
                  <a:pt x="6196" y="12828"/>
                </a:cubicBez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nline Text Book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books - </a:t>
            </a: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http://en.wikibooks.org/wiki/Main_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versity - </a:t>
            </a: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http://en.wikibooks.org/wiki/Wik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junior - </a:t>
            </a: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http://en.wikibooks.org/wiki/Wikijun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MCj03970580000[1]"/>
          <p:cNvPicPr/>
          <p:nvPr/>
        </p:nvPicPr>
        <p:blipFill>
          <a:blip r:embed="rId4"/>
          <a:stretch/>
        </p:blipFill>
        <p:spPr>
          <a:xfrm>
            <a:off x="5105520" y="5410080"/>
            <a:ext cx="123804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nline Dictionari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Wiktionary - </a:t>
            </a: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http://www.wiktionary.o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5" descr="MCj02371580000[1]"/>
          <p:cNvPicPr/>
          <p:nvPr/>
        </p:nvPicPr>
        <p:blipFill>
          <a:blip r:embed="rId2"/>
          <a:stretch/>
        </p:blipFill>
        <p:spPr>
          <a:xfrm>
            <a:off x="5867280" y="2971800"/>
            <a:ext cx="20401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How-to Guid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how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http://wiki.ehow.com/Main-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books - Garage Band Quick Tutorial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http://en.wikibooks.org/wiki/Garageband_Quick_Tutor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Calgary – Podcasting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http://wiki.ucalgary.ca/page/Podca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MCj03117780000[1]"/>
          <p:cNvPicPr/>
          <p:nvPr/>
        </p:nvPicPr>
        <p:blipFill>
          <a:blip r:embed="rId4"/>
          <a:stretch/>
        </p:blipFill>
        <p:spPr>
          <a:xfrm>
            <a:off x="7620120" y="5029200"/>
            <a:ext cx="87768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Best Practice Resourc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iki - </a:t>
            </a:r>
            <a:r>
              <a:rPr b="0" lang="en-US" sz="24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http://www.curriki.org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Success - </a:t>
            </a:r>
            <a:r>
              <a:rPr b="0" lang="en-US" sz="24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http://www.libsuccess.org/index.php?title=Main_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nded Learning in K-12 - </a:t>
            </a:r>
            <a:r>
              <a:rPr b="0" lang="en-US" sz="24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http://en.wikibooks.org/wiki/Blended_Learning_in_K-12/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roe 1 Model Schools Wiki - </a:t>
            </a:r>
            <a:r>
              <a:rPr b="0" lang="en-US" sz="2400" spc="-1" strike="noStrike" u="sng">
                <a:solidFill>
                  <a:srgbClr val="ca70ae"/>
                </a:solidFill>
                <a:uFillTx/>
                <a:latin typeface="Arial"/>
                <a:hlinkClick r:id="rId4"/>
              </a:rPr>
              <a:t>http://wiki.monroe.edu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t Home Admin Wiki - </a:t>
            </a:r>
            <a:r>
              <a:rPr b="0" lang="en-US" sz="2400" spc="-1" strike="noStrike" u="sng">
                <a:solidFill>
                  <a:srgbClr val="ca70ae"/>
                </a:solidFill>
                <a:uFillTx/>
                <a:latin typeface="Arial"/>
                <a:hlinkClick r:id="rId5"/>
              </a:rPr>
              <a:t>http://sweethomeadminwiki.pbwiki.com/Front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6" descr="MCj04107870000[1]"/>
          <p:cNvPicPr/>
          <p:nvPr/>
        </p:nvPicPr>
        <p:blipFill>
          <a:blip r:embed="rId6"/>
          <a:stretch/>
        </p:blipFill>
        <p:spPr>
          <a:xfrm>
            <a:off x="6400800" y="5410080"/>
            <a:ext cx="175248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nline Librari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Wikisource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http://en.wikisource.org/wiki/Main_Page:Engli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 Library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http://www.vidipedia.org/Main_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Example: Choral Public Domain Library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http://cpdl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MCj03340540000[1]"/>
          <p:cNvPicPr/>
          <p:nvPr/>
        </p:nvPicPr>
        <p:blipFill>
          <a:blip r:embed="rId4"/>
          <a:stretch/>
        </p:blipFill>
        <p:spPr>
          <a:xfrm>
            <a:off x="7391520" y="5410080"/>
            <a:ext cx="16761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ews Wiki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Wikinews - </a:t>
            </a: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http://en.wikinews.org/wiki/Main_P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7" descr="MCj03710640000[1]"/>
          <p:cNvPicPr/>
          <p:nvPr/>
        </p:nvPicPr>
        <p:blipFill>
          <a:blip r:embed="rId2"/>
          <a:stretch/>
        </p:blipFill>
        <p:spPr>
          <a:xfrm>
            <a:off x="3962520" y="3581280"/>
            <a:ext cx="1898640" cy="16700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MCj02868370000[1]"/>
          <p:cNvPicPr/>
          <p:nvPr/>
        </p:nvPicPr>
        <p:blipFill>
          <a:blip r:embed="rId3"/>
          <a:stretch/>
        </p:blipFill>
        <p:spPr>
          <a:xfrm>
            <a:off x="6781680" y="4495680"/>
            <a:ext cx="1795680" cy="16304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" descr="MCj02991210000[1]"/>
          <p:cNvPicPr/>
          <p:nvPr/>
        </p:nvPicPr>
        <p:blipFill>
          <a:blip r:embed="rId4"/>
          <a:stretch/>
        </p:blipFill>
        <p:spPr>
          <a:xfrm>
            <a:off x="762120" y="4800600"/>
            <a:ext cx="220968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ther Wiki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wika (wiki search engine)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http://www.qwika.com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quote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http://en.wikiquote.org/wiki/Main_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bor Heights Elementary School Wiki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http://arborheights.wikispaces.com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en Poetry Wiki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4"/>
              </a:rPr>
              <a:t>http://www.ipl.org/div/teenpoet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Wiki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5"/>
              </a:rPr>
              <a:t>http://monicabd.wikispaces.com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5" descr="MCj04122660000[1]"/>
          <p:cNvPicPr/>
          <p:nvPr/>
        </p:nvPicPr>
        <p:blipFill>
          <a:blip r:embed="rId6"/>
          <a:stretch/>
        </p:blipFill>
        <p:spPr>
          <a:xfrm>
            <a:off x="7480440" y="5373720"/>
            <a:ext cx="16635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Wiki Lesson Ideas and Curriculum Integr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LIS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k reviews and com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ratic Semin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ature Cir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wr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sam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bliograp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ve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425"/>
              </a:spcBef>
              <a:buClr>
                <a:srgbClr val="ca70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High School Online Collaborative Writing -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http://schools.wikia.com/wiki/Main_Pag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700"/>
              </a:spcBef>
              <a:buClr>
                <a:srgbClr val="ca70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Teen Poetry Wiki - </a:t>
            </a:r>
            <a:r>
              <a:rPr b="0" lang="en-US" sz="17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http://www.ipl.org/div/teenpoet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nd post a story or book idea and have feedback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made for creative writing cla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sential questions or chapter questions for a no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cabulary 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events n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information for sub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5" descr="MCj03974640000[1]"/>
          <p:cNvPicPr/>
          <p:nvPr/>
        </p:nvPicPr>
        <p:blipFill>
          <a:blip r:embed="rId4"/>
          <a:stretch/>
        </p:blipFill>
        <p:spPr>
          <a:xfrm>
            <a:off x="6934320" y="1219320"/>
            <a:ext cx="13809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iki Lesson Ideas and Curriculum Integration - Continue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AL STUDI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ratic Semin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events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– Example: Studying Societies at JHK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http://studyingsocietiesatjhk.pbwiki.com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IEN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es re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MENTAR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junior/Wikibooks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http://en.wikibooks.org/wiki/Wikijuni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spaces – Another 250,000 Wikis in the Classroom Project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http://www.wikispaces.com/site/for/teachers100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7" descr="MCj03979630000[1]"/>
          <p:cNvPicPr/>
          <p:nvPr/>
        </p:nvPicPr>
        <p:blipFill>
          <a:blip r:embed="rId4"/>
          <a:stretch/>
        </p:blipFill>
        <p:spPr>
          <a:xfrm>
            <a:off x="7467480" y="2819520"/>
            <a:ext cx="13622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re wiki hosting …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wiki hosts of your choice with WikiMatri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http://www.wikimatrix.org/index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4" descr="j0234657"/>
          <p:cNvPicPr/>
          <p:nvPr/>
        </p:nvPicPr>
        <p:blipFill>
          <a:blip r:embed="rId2"/>
          <a:stretch/>
        </p:blipFill>
        <p:spPr>
          <a:xfrm>
            <a:off x="6781680" y="4952880"/>
            <a:ext cx="17128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What is 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E CONTENT AND PURPOSES OF BLOGS VARIES GREATLY — FROM LINKS AND COMMENTARY ABOUT OTHER WEB SITES, TO NEWS ABOUT A COMPANY/PERSON/IDEA, TO DIARIES, PHOTOS, POETRY, MINI-ESSAYS, PROJECT UPDATES, EVEN FICTION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WordArt 4"/>
          <p:cNvSpPr txBox="1"/>
          <p:nvPr/>
        </p:nvSpPr>
        <p:spPr>
          <a:xfrm>
            <a:off x="3657600" y="609480"/>
            <a:ext cx="3048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log?</a:t>
            </a:r>
            <a:endParaRPr b="0" lang="en-US" sz="18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6196" y="7493"/>
                </a:moveTo>
                <a:lnTo>
                  <a:pt x="9704" y="7493"/>
                </a:lnTo>
                <a:lnTo>
                  <a:pt x="9704" y="12828"/>
                </a:lnTo>
                <a:cubicBezTo>
                  <a:pt x="9704" y="13751"/>
                  <a:pt x="10504" y="14482"/>
                  <a:pt x="11540" y="14482"/>
                </a:cubicBezTo>
                <a:lnTo>
                  <a:pt x="13203" y="14482"/>
                </a:lnTo>
                <a:cubicBezTo>
                  <a:pt x="14238" y="14482"/>
                  <a:pt x="15039" y="13751"/>
                  <a:pt x="15039" y="12828"/>
                </a:cubicBezTo>
                <a:lnTo>
                  <a:pt x="15039" y="7493"/>
                </a:lnTo>
                <a:lnTo>
                  <a:pt x="13203" y="7493"/>
                </a:lnTo>
                <a:lnTo>
                  <a:pt x="16710" y="3985"/>
                </a:lnTo>
                <a:lnTo>
                  <a:pt x="20383" y="7493"/>
                </a:lnTo>
                <a:lnTo>
                  <a:pt x="18547" y="7493"/>
                </a:lnTo>
                <a:lnTo>
                  <a:pt x="18547" y="12828"/>
                </a:lnTo>
                <a:cubicBezTo>
                  <a:pt x="18547" y="15596"/>
                  <a:pt x="15970" y="18155"/>
                  <a:pt x="13203" y="18155"/>
                </a:cubicBezTo>
                <a:lnTo>
                  <a:pt x="11540" y="18155"/>
                </a:lnTo>
                <a:cubicBezTo>
                  <a:pt x="8772" y="18155"/>
                  <a:pt x="6196" y="15596"/>
                  <a:pt x="6196" y="12828"/>
                </a:cubicBez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Wiki Inform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s in Online Education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http://wik.ed.uiuc.edu/index.php/Wikis_in_Online_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, March 2005: The Book Stops Here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http://www.wired.com/wired/archive/13.03/wiki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 Bilodeau: Wiki, an Overview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4"/>
              </a:rPr>
              <a:t>http://www.marcbilodeau.com/research/it/wiki.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eachers New to Wikis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5"/>
              </a:rPr>
              <a:t>http://writingwiki.org/default.aspx/WritingWiki/For%20Teachers%20New%20to%20Wiki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chool News Online, January 25, 2006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6"/>
              </a:rPr>
              <a:t>http://www.eschoolnews.com/news/showStory.cfm?ArticleID=606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logg-ed Links: Wikis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7"/>
              </a:rPr>
              <a:t>http://webloggedlinks.pbwiki.com/Wik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4">
            <a:hlinkClick r:id="rId8" action="ppaction://hlinksldjump"/>
          </p:cNvPr>
          <p:cNvSpPr/>
          <p:nvPr/>
        </p:nvSpPr>
        <p:spPr>
          <a:xfrm>
            <a:off x="7238880" y="609480"/>
            <a:ext cx="1143000" cy="106704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3137" h="21600">
                <a:moveTo>
                  <a:pt x="0" y="0"/>
                </a:moveTo>
                <a:lnTo>
                  <a:pt x="23137" y="0"/>
                </a:lnTo>
                <a:lnTo>
                  <a:pt x="23137" y="21600"/>
                </a:lnTo>
                <a:lnTo>
                  <a:pt x="0" y="21600"/>
                </a:lnTo>
                <a:close/>
              </a:path>
              <a:path fill="lightenLess" w="23137" h="21600">
                <a:moveTo>
                  <a:pt x="0" y="0"/>
                </a:moveTo>
                <a:lnTo>
                  <a:pt x="23137" y="0"/>
                </a:lnTo>
                <a:lnTo>
                  <a:pt x="21737" y="1400"/>
                </a:lnTo>
                <a:lnTo>
                  <a:pt x="1400" y="1400"/>
                </a:lnTo>
                <a:close/>
              </a:path>
              <a:path fill="darken" w="23137" h="21600">
                <a:moveTo>
                  <a:pt x="23137" y="0"/>
                </a:moveTo>
                <a:lnTo>
                  <a:pt x="23137" y="21600"/>
                </a:lnTo>
                <a:lnTo>
                  <a:pt x="21737" y="20200"/>
                </a:lnTo>
                <a:lnTo>
                  <a:pt x="21737" y="1400"/>
                </a:lnTo>
                <a:close/>
              </a:path>
              <a:path fill="darkenLess" w="23137" h="21600">
                <a:moveTo>
                  <a:pt x="23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7" y="20200"/>
                </a:lnTo>
                <a:close/>
              </a:path>
              <a:path fill="lighten" w="23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37" h="21600">
                <a:moveTo>
                  <a:pt x="11569" y="3837"/>
                </a:moveTo>
                <a:lnTo>
                  <a:pt x="14145" y="6448"/>
                </a:lnTo>
                <a:lnTo>
                  <a:pt x="14145" y="4707"/>
                </a:lnTo>
                <a:lnTo>
                  <a:pt x="15920" y="4707"/>
                </a:lnTo>
                <a:lnTo>
                  <a:pt x="15920" y="8224"/>
                </a:lnTo>
                <a:lnTo>
                  <a:pt x="18532" y="10800"/>
                </a:lnTo>
                <a:lnTo>
                  <a:pt x="16878" y="10800"/>
                </a:lnTo>
                <a:lnTo>
                  <a:pt x="16878" y="17989"/>
                </a:lnTo>
                <a:lnTo>
                  <a:pt x="6259" y="17989"/>
                </a:lnTo>
                <a:lnTo>
                  <a:pt x="6259" y="10800"/>
                </a:lnTo>
                <a:lnTo>
                  <a:pt x="4606" y="10800"/>
                </a:lnTo>
                <a:close/>
              </a:path>
              <a:path fill="darkenLess" w="23137" h="21600">
                <a:moveTo>
                  <a:pt x="14145" y="6448"/>
                </a:moveTo>
                <a:lnTo>
                  <a:pt x="14145" y="4707"/>
                </a:lnTo>
                <a:lnTo>
                  <a:pt x="15920" y="4707"/>
                </a:lnTo>
                <a:lnTo>
                  <a:pt x="15920" y="8224"/>
                </a:lnTo>
                <a:close/>
              </a:path>
              <a:path fill="darkenLess" w="23137" h="21600">
                <a:moveTo>
                  <a:pt x="10646" y="14299"/>
                </a:moveTo>
                <a:lnTo>
                  <a:pt x="12491" y="14299"/>
                </a:lnTo>
                <a:lnTo>
                  <a:pt x="12491" y="17989"/>
                </a:lnTo>
                <a:lnTo>
                  <a:pt x="16878" y="17989"/>
                </a:lnTo>
                <a:lnTo>
                  <a:pt x="16878" y="10800"/>
                </a:lnTo>
                <a:lnTo>
                  <a:pt x="6259" y="10800"/>
                </a:lnTo>
                <a:lnTo>
                  <a:pt x="6259" y="17989"/>
                </a:lnTo>
                <a:lnTo>
                  <a:pt x="10646" y="17989"/>
                </a:ln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5">
            <a:hlinkClick r:id="" action="ppaction://hlinkshowjump?jump=firstslide"/>
          </p:cNvPr>
          <p:cNvSpPr/>
          <p:nvPr/>
        </p:nvSpPr>
        <p:spPr>
          <a:xfrm>
            <a:off x="7315200" y="2743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ssues with Wikis 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Andy Carvin Presentation – Wiki R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Internet encyclopedias go head to he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ikipedia comes close to Britannica in terms of the accuracy of its science entries,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estigation fi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Wikipedia: External pee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kipedia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itannica 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id’s All Righ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And So’s the Old Man)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hoolNew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itizendium - 2/22/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 Flattery, Insult Lives Side by S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uffalo News, 3/12/2006) – access through Infotrac (New York State Newspapers) on WNYRIC School Library System Catalog or by NYS library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Latest on Virginia Tech, From Wikipe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ew York Times, 4/23/2007) - access through Infotrac (New York State Newspapers) on WNYRIC School Library System Catalog or by NYS library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a Tamaraz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amarazio@e1b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914040" y="21333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66"/>
                </a:solidFill>
                <a:latin typeface="Arial"/>
              </a:rPr>
              <a:t>                          </a:t>
            </a:r>
            <a:r>
              <a:rPr b="0" lang="en-US" sz="35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Wikipedia’s Defini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876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66"/>
                </a:solidFill>
                <a:latin typeface="Arial"/>
              </a:rPr>
              <a:t>A BLOG IS A WEB PAGE MADE UP  OF USUALLY SHORT, FREQUENTLY UPDATED POSTS THAT ARE ARRANGED CHRONOLOGICALLY.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Common Craft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What is a Blog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6196" y="7493"/>
                </a:moveTo>
                <a:lnTo>
                  <a:pt x="9704" y="7493"/>
                </a:lnTo>
                <a:lnTo>
                  <a:pt x="9704" y="12828"/>
                </a:lnTo>
                <a:cubicBezTo>
                  <a:pt x="9704" y="13751"/>
                  <a:pt x="10504" y="14482"/>
                  <a:pt x="11540" y="14482"/>
                </a:cubicBezTo>
                <a:lnTo>
                  <a:pt x="13203" y="14482"/>
                </a:lnTo>
                <a:cubicBezTo>
                  <a:pt x="14238" y="14482"/>
                  <a:pt x="15039" y="13751"/>
                  <a:pt x="15039" y="12828"/>
                </a:cubicBezTo>
                <a:lnTo>
                  <a:pt x="15039" y="7493"/>
                </a:lnTo>
                <a:lnTo>
                  <a:pt x="13203" y="7493"/>
                </a:lnTo>
                <a:lnTo>
                  <a:pt x="16710" y="3985"/>
                </a:lnTo>
                <a:lnTo>
                  <a:pt x="20383" y="7493"/>
                </a:lnTo>
                <a:lnTo>
                  <a:pt x="18547" y="7493"/>
                </a:lnTo>
                <a:lnTo>
                  <a:pt x="18547" y="12828"/>
                </a:lnTo>
                <a:cubicBezTo>
                  <a:pt x="18547" y="15596"/>
                  <a:pt x="15970" y="18155"/>
                  <a:pt x="13203" y="18155"/>
                </a:cubicBezTo>
                <a:lnTo>
                  <a:pt x="11540" y="18155"/>
                </a:lnTo>
                <a:cubicBezTo>
                  <a:pt x="8772" y="18155"/>
                  <a:pt x="6196" y="15596"/>
                  <a:pt x="6196" y="12828"/>
                </a:cubicBez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69696"/>
                </a:solidFill>
                <a:latin typeface="Arial"/>
              </a:rPr>
              <a:t>More </a:t>
            </a:r>
            <a:r>
              <a:rPr b="0" lang="en-US" sz="35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information</a:t>
            </a:r>
            <a:r>
              <a:rPr b="0" lang="en-US" sz="3500" spc="-1" strike="noStrike">
                <a:solidFill>
                  <a:srgbClr val="969696"/>
                </a:solidFill>
                <a:latin typeface="Arial"/>
              </a:rPr>
              <a:t> on blogs vs. forums.         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69696"/>
                </a:solidFill>
                <a:latin typeface="Arial"/>
              </a:rPr>
              <a:t>This site organizes the similarities and differences between the two topics and also gives definitions for terms that are used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Blogs vs. Forums</a:t>
            </a:r>
            <a:br>
              <a:rPr sz="4400"/>
            </a:b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 What are the differences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6196" y="7493"/>
                </a:moveTo>
                <a:lnTo>
                  <a:pt x="9704" y="7493"/>
                </a:lnTo>
                <a:lnTo>
                  <a:pt x="9704" y="12828"/>
                </a:lnTo>
                <a:cubicBezTo>
                  <a:pt x="9704" y="13751"/>
                  <a:pt x="10504" y="14482"/>
                  <a:pt x="11540" y="14482"/>
                </a:cubicBezTo>
                <a:lnTo>
                  <a:pt x="13203" y="14482"/>
                </a:lnTo>
                <a:cubicBezTo>
                  <a:pt x="14238" y="14482"/>
                  <a:pt x="15039" y="13751"/>
                  <a:pt x="15039" y="12828"/>
                </a:cubicBezTo>
                <a:lnTo>
                  <a:pt x="15039" y="7493"/>
                </a:lnTo>
                <a:lnTo>
                  <a:pt x="13203" y="7493"/>
                </a:lnTo>
                <a:lnTo>
                  <a:pt x="16710" y="3985"/>
                </a:lnTo>
                <a:lnTo>
                  <a:pt x="20383" y="7493"/>
                </a:lnTo>
                <a:lnTo>
                  <a:pt x="18547" y="7493"/>
                </a:lnTo>
                <a:lnTo>
                  <a:pt x="18547" y="12828"/>
                </a:lnTo>
                <a:cubicBezTo>
                  <a:pt x="18547" y="15596"/>
                  <a:pt x="15970" y="18155"/>
                  <a:pt x="13203" y="18155"/>
                </a:cubicBezTo>
                <a:lnTo>
                  <a:pt x="11540" y="18155"/>
                </a:lnTo>
                <a:cubicBezTo>
                  <a:pt x="8772" y="18155"/>
                  <a:pt x="6196" y="15596"/>
                  <a:pt x="6196" y="12828"/>
                </a:cubicBez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Blogs vs. Forums</a:t>
            </a:r>
            <a:br>
              <a:rPr sz="4400"/>
            </a:b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What are the differences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401" name="Object 3"/>
          <p:cNvGraphicFramePr/>
          <p:nvPr/>
        </p:nvGraphicFramePr>
        <p:xfrm>
          <a:off x="3429000" y="2286000"/>
          <a:ext cx="5276880" cy="44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286000"/>
                    <a:ext cx="5276880" cy="4408560"/>
                  </a:xfrm>
                  <a:prstGeom prst="rect">
                    <a:avLst/>
                  </a:prstGeom>
                  <a:ln w="3240">
                    <a:solidFill>
                      <a:srgbClr val="8267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03" name="Text Box 4">
            <a:hlinkClick r:id="rId3"/>
          </p:cNvPr>
          <p:cNvSpPr/>
          <p:nvPr/>
        </p:nvSpPr>
        <p:spPr>
          <a:xfrm>
            <a:off x="304920" y="4191120"/>
            <a:ext cx="1981080" cy="1068840"/>
          </a:xfrm>
          <a:prstGeom prst="rect">
            <a:avLst/>
          </a:prstGeom>
          <a:solidFill>
            <a:srgbClr val="717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a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5">
            <a:hlinkClick r:id="" action="ppaction://hlinkshowjump?jump=firstslide"/>
          </p:cNvPr>
          <p:cNvSpPr/>
          <p:nvPr/>
        </p:nvSpPr>
        <p:spPr>
          <a:xfrm>
            <a:off x="304920" y="56386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Blogs vs. Forums</a:t>
            </a:r>
            <a:br>
              <a:rPr sz="4400"/>
            </a:b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What are the differences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406" name="Object 3"/>
          <p:cNvGraphicFramePr/>
          <p:nvPr/>
        </p:nvGraphicFramePr>
        <p:xfrm>
          <a:off x="2971800" y="1828800"/>
          <a:ext cx="5924520" cy="48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828800"/>
                    <a:ext cx="5924520" cy="4809960"/>
                  </a:xfrm>
                  <a:prstGeom prst="rect">
                    <a:avLst/>
                  </a:prstGeom>
                  <a:ln w="3240">
                    <a:solidFill>
                      <a:srgbClr val="8267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08" name="Text Box 4">
            <a:hlinkClick r:id="rId3"/>
          </p:cNvPr>
          <p:cNvSpPr/>
          <p:nvPr/>
        </p:nvSpPr>
        <p:spPr>
          <a:xfrm>
            <a:off x="685800" y="3962520"/>
            <a:ext cx="1905120" cy="1068840"/>
          </a:xfrm>
          <a:prstGeom prst="rect">
            <a:avLst/>
          </a:prstGeom>
          <a:solidFill>
            <a:srgbClr val="717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a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>
            <a:hlinkClick r:id="" action="ppaction://hlinkshowjump?jump=firstslide"/>
          </p:cNvPr>
          <p:cNvSpPr/>
          <p:nvPr/>
        </p:nvSpPr>
        <p:spPr>
          <a:xfrm>
            <a:off x="762120" y="58672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17eb5"/>
                </a:solidFill>
                <a:latin typeface="Arial"/>
              </a:rPr>
              <a:t>Blogging 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239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2</a:t>
            </a:r>
            <a:r>
              <a:rPr b="0" lang="en-US" sz="3500" spc="-1" strike="noStrike" u="sng" baseline="30000">
                <a:solidFill>
                  <a:srgbClr val="ca70ae"/>
                </a:solidFill>
                <a:uFillTx/>
                <a:latin typeface="Arial"/>
                <a:hlinkClick r:id="rId2"/>
              </a:rPr>
              <a:t>ND</a:t>
            </a:r>
            <a:r>
              <a:rPr b="0" lang="en-US" sz="3500" spc="-1" strike="noStrike" u="sng" baseline="30000">
                <a:solidFill>
                  <a:srgbClr val="ca70ae"/>
                </a:solidFill>
                <a:uFillTx/>
                <a:latin typeface="Arial"/>
                <a:hlinkClick r:id="rId3"/>
              </a:rPr>
              <a:t> Grade Class Weblo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a70ae"/>
                </a:solidFill>
                <a:uFillTx/>
                <a:latin typeface="Arial"/>
                <a:hlinkClick r:id="rId4"/>
              </a:rPr>
              <a:t>Mrs. Rikard’s 3</a:t>
            </a:r>
            <a:r>
              <a:rPr b="0" lang="en-US" sz="3500" spc="-1" strike="noStrike" u="sng" baseline="30000">
                <a:solidFill>
                  <a:srgbClr val="ca70ae"/>
                </a:solidFill>
                <a:uFillTx/>
                <a:latin typeface="Arial"/>
                <a:hlinkClick r:id="rId5"/>
              </a:rPr>
              <a:t>rd</a:t>
            </a:r>
            <a:r>
              <a:rPr b="0" lang="en-US" sz="3500" spc="-1" strike="noStrike" u="sng" baseline="30000">
                <a:solidFill>
                  <a:srgbClr val="ca70ae"/>
                </a:solidFill>
                <a:uFillTx/>
                <a:latin typeface="Arial"/>
                <a:hlinkClick r:id="rId6"/>
              </a:rPr>
              <a:t> Grade Blog Si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a70ae"/>
                </a:solidFill>
                <a:uFillTx/>
                <a:latin typeface="Arial"/>
                <a:hlinkClick r:id="rId7"/>
              </a:rPr>
              <a:t>Young Adult Novels Blo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a70ae"/>
                </a:solidFill>
                <a:uFillTx/>
                <a:latin typeface="Arial"/>
                <a:hlinkClick r:id="rId8"/>
              </a:rPr>
              <a:t>Teaching History Matt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a70ae"/>
                </a:solidFill>
                <a:uFillTx/>
                <a:latin typeface="Arial"/>
                <a:hlinkClick r:id="rId9"/>
              </a:rPr>
              <a:t>5</a:t>
            </a:r>
            <a:r>
              <a:rPr b="0" lang="en-US" sz="3500" spc="-1" strike="noStrike" u="sng" baseline="30000">
                <a:solidFill>
                  <a:srgbClr val="ca70ae"/>
                </a:solidFill>
                <a:uFillTx/>
                <a:latin typeface="Arial"/>
                <a:hlinkClick r:id="rId10"/>
              </a:rPr>
              <a:t>th</a:t>
            </a:r>
            <a:r>
              <a:rPr b="0" lang="en-US" sz="3500" spc="-1" strike="noStrike" u="sng" baseline="30000">
                <a:solidFill>
                  <a:srgbClr val="ca70ae"/>
                </a:solidFill>
                <a:uFillTx/>
                <a:latin typeface="Arial"/>
                <a:hlinkClick r:id="rId11"/>
              </a:rPr>
              <a:t> Grade Math Blo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ASSBLOGMEISTER.COM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13" name="Picture 3" descr="theblo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981080"/>
            <a:ext cx="4210200" cy="441972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6196" y="7493"/>
                </a:moveTo>
                <a:lnTo>
                  <a:pt x="9704" y="7493"/>
                </a:lnTo>
                <a:lnTo>
                  <a:pt x="9704" y="12828"/>
                </a:lnTo>
                <a:cubicBezTo>
                  <a:pt x="9704" y="13751"/>
                  <a:pt x="10504" y="14482"/>
                  <a:pt x="11540" y="14482"/>
                </a:cubicBezTo>
                <a:lnTo>
                  <a:pt x="13203" y="14482"/>
                </a:lnTo>
                <a:cubicBezTo>
                  <a:pt x="14238" y="14482"/>
                  <a:pt x="15039" y="13751"/>
                  <a:pt x="15039" y="12828"/>
                </a:cubicBezTo>
                <a:lnTo>
                  <a:pt x="15039" y="7493"/>
                </a:lnTo>
                <a:lnTo>
                  <a:pt x="13203" y="7493"/>
                </a:lnTo>
                <a:lnTo>
                  <a:pt x="16710" y="3985"/>
                </a:lnTo>
                <a:lnTo>
                  <a:pt x="20383" y="7493"/>
                </a:lnTo>
                <a:lnTo>
                  <a:pt x="18547" y="7493"/>
                </a:lnTo>
                <a:lnTo>
                  <a:pt x="18547" y="12828"/>
                </a:lnTo>
                <a:cubicBezTo>
                  <a:pt x="18547" y="15596"/>
                  <a:pt x="15970" y="18155"/>
                  <a:pt x="13203" y="18155"/>
                </a:cubicBezTo>
                <a:lnTo>
                  <a:pt x="11540" y="18155"/>
                </a:lnTo>
                <a:cubicBezTo>
                  <a:pt x="8772" y="18155"/>
                  <a:pt x="6196" y="15596"/>
                  <a:pt x="6196" y="12828"/>
                </a:cubicBez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2:19:08Z</dcterms:created>
  <dc:creator>Cbieniek</dc:creator>
  <dc:description/>
  <dc:language>en-US</dc:language>
  <cp:lastModifiedBy>CSLO-Staff</cp:lastModifiedBy>
  <dcterms:modified xsi:type="dcterms:W3CDTF">2010-03-23T16:55:27Z</dcterms:modified>
  <cp:revision>56</cp:revision>
  <dc:subject/>
  <dc:title>Wikis, Blogs, and Podcasting</dc:title>
</cp:coreProperties>
</file>